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F483-23EE-479C-9D84-C1E0E06E82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357A-4E9C-42BD-B4C4-0EDA0D98E31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258B-EEAB-41AB-9CD6-F99BCFDF37F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358AF-A1CA-472D-B8BD-C0E4F2B0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C1840-F6B2-4C6F-8607-596A0CE3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CD8DC-81E9-4CDD-883F-C451A12F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A8A59-CC20-48E5-9D7C-D2037F0D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8E96A-D707-41FA-9191-6C0FBB3A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FA36E-AC4A-4706-9AE0-D249FAA8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D5E28-139C-4409-A163-20A6F9B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515F8-6A62-4152-BE54-BE77B0D3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46C50-C28D-457A-BC0D-D4BC036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EC58E-0CFA-40F2-A17C-4A54EF47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86CB8-D6BA-47AB-ABEF-A0E8DE09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8E7D0-B7A1-4A17-9D45-43F0A6F8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A83D-09E6-488F-A979-FB28EBB8D218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C6ED-5770-4E9C-A5D5-0063DBE712F1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E69-6F75-44B2-B122-1A712A356EEF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4090-594A-4F0B-92A1-3C2F52B2EA85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3C7A-7327-442D-946D-5B95FD857B9A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sp>
          <p:nvSpPr>
            <p:cNvPr id="375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그룹 15"/>
            <p:cNvGrpSpPr/>
            <p:nvPr/>
          </p:nvGrpSpPr>
          <p:grpSpPr>
            <a:xfrm>
              <a:off x="142920" y="1103400"/>
              <a:ext cx="8820360" cy="3405960"/>
              <a:chOff x="142920" y="1103400"/>
              <a:chExt cx="8820360" cy="3405960"/>
            </a:xfrm>
          </p:grpSpPr>
          <p:sp>
            <p:nvSpPr>
              <p:cNvPr id="377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AutoShape 2"/>
              <p:cNvSpPr/>
              <p:nvPr/>
            </p:nvSpPr>
            <p:spPr>
              <a:xfrm>
                <a:off x="142920" y="1509480"/>
                <a:ext cx="882036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9" name="Text Box 25"/>
              <p:cNvSpPr/>
              <p:nvPr/>
            </p:nvSpPr>
            <p:spPr>
              <a:xfrm>
                <a:off x="142920" y="1557360"/>
                <a:ext cx="882036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0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 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6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체계적으로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조적으로 모방하는 것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 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980640"/>
              <a:ext cx="867888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검토기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PE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과 활동별 시간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Gantt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cha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월별 활동카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Shed-U Graph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총괄진행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Flow chart)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 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1H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내 관련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의 종사자와 긴밀한 협조관계를 유지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0-471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 단계에서도 조직 내외부의 상황변화에 따른 장애요인 파악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슈퍼비전을 제공해야 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평가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49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2-47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안서의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의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한 장의 계획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one paper proposal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한 경우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 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999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축소해 나가는 방식으로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자 선정 기준과 절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집 부진시 대응방안도 상세히 기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를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106200" y="115920"/>
            <a:ext cx="9074160" cy="6851160"/>
            <a:chOff x="106200" y="115920"/>
            <a:chExt cx="9074160" cy="6851160"/>
          </a:xfrm>
        </p:grpSpPr>
        <p:sp>
          <p:nvSpPr>
            <p:cNvPr id="428" name="직사각형 5"/>
            <p:cNvSpPr/>
            <p:nvPr/>
          </p:nvSpPr>
          <p:spPr>
            <a:xfrm>
              <a:off x="106200" y="1159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06200" y="473040"/>
              <a:ext cx="8968680" cy="3348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78920" y="476280"/>
              <a:ext cx="9001440" cy="31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들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체험여행 등의 일회성 프로그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식 및 다과비 등을 지나치게 많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편성하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06200" y="38386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06200" y="4162320"/>
              <a:ext cx="8968680" cy="1643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06200" y="41738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평가항목 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8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282600" y="5816520"/>
              <a:ext cx="7673040" cy="1150560"/>
              <a:chOff x="282600" y="5816520"/>
              <a:chExt cx="7673040" cy="115056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282600" y="5816520"/>
                <a:ext cx="903600" cy="81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1167840" y="5943600"/>
                <a:ext cx="67878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 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 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 유사 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81373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엇이 되어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증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조직에서 활용 가능한 프로그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봉숭아 기르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-&g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꽃물들이기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상요법 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2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0:34Z</dcterms:modified>
  <cp:revision>36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